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F18-2F73-4207-9944-F8E2245B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7CC-5F7C-4EB1-AA4C-C5D7064A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17C-3EC9-4CC8-93C5-D561A8E6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D41-46A2-4EC8-9DF1-33053ADD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4EB-CFF3-4BC4-AEA9-98B80684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432-2546-4E54-A6E8-6062B292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003-3758-4243-AB36-A8F42D1B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24C-E447-4C6D-9FFA-F87DBD2F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DEB-E434-4010-9234-5E4DC5AC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D82-490F-4B71-BDB3-8E575399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790-7C00-48BC-ACBB-B055EDB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299-30D5-4D34-8C80-8B19975E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1CD5-4233-4AB7-8BCA-6FDC81924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egal immigrants cross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order without the pro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perwork permitting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become citizens of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088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difference between a LEGAL immigrant and an ILLEGAL immig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t and hum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limate like in the Amaz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ee Enterpris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economic system is the United States economy base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ntries that rely on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INTERDEP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land is too large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vernment to regulat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hasn’t the illegal cutting of the Rainforest sto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cky Mountains, Costal Plain, and Great Plains can be found on which 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Transpor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Broadc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Health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ree things does the Canadian government offer its citizens that the US government does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ndustry that produce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e instead of a produ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ervice Indus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it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ead economy - simulation that we did, what was the name of ONE of the THREE economies we talked about.  Please give me two facts about the econ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we are a mix of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culture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e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28600"/>
            <a:ext cx="78487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United States considered a melting p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2860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 or South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0"/>
            <a:ext cx="20574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nomi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0"/>
            <a:ext cx="22100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om Fact Extravag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 American F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e Agre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, Mexico, 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NAFTA stand for?  Which three countries are apart of NAF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untry in which industry h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laced farming as the m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c activ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INDUSTR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rming or Ran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ll of the Amazon, what is the number one cause of defores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153280" cy="53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merigo BT"/>
              </a:rPr>
              <a:t>Final Jeopard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merigo BT"/>
              </a:rPr>
              <a:t>Teams prepare to make your WAGER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83808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ease list and EXPLAIN the five different types of deforest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ted States, Mexico, Canada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Green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FOUR countries make up North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xed Mar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economy does the U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includes 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cultu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UL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743200"/>
            <a:ext cx="7162920" cy="2743200"/>
          </a:xfrm>
          <a:prstGeom prst="wedgeRectCallout">
            <a:avLst>
              <a:gd name="adj1" fmla="val -21231"/>
              <a:gd name="adj2" fmla="val -717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farmer who only grows en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od for them and their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surv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term SUBSITANCE FARMER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ARGEST country in South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five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six in Ca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Economic regions are there in the US?  Can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son who hunts and 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 illeg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PO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8-10-15T12:51:36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